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4C9-1C39-4C0D-AECC-0314FA70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EAA-C8EE-4392-963B-0B066493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049-F482-440C-A928-4D5C15B9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AC1-32B3-424D-87F8-C9ACA852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58B-707E-4649-AD68-1EC50E93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E65-CD21-48AD-83A1-A2A52EA7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89D-B510-4751-989A-D9C74555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EDF-D888-4334-B209-E05D1E63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791-D29B-48E1-A653-4890DF7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4C1-510F-49A8-9B08-F46FC483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B5F-8936-445D-894A-22F1483A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B2D-1D65-4631-B7B6-E024E63D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963F-824F-4342-9AAA-C41F0BCB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The Himalaya Mount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By:  Ms. Rus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ANCIENT INDIA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Him2"/>
          <p:cNvPicPr/>
          <p:nvPr/>
        </p:nvPicPr>
        <p:blipFill>
          <a:blip r:embed="rId2"/>
          <a:stretch/>
        </p:blipFill>
        <p:spPr>
          <a:xfrm>
            <a:off x="380880" y="1752480"/>
            <a:ext cx="2505240" cy="160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imalayas"/>
          <p:cNvPicPr/>
          <p:nvPr/>
        </p:nvPicPr>
        <p:blipFill>
          <a:blip r:embed="rId3"/>
          <a:stretch/>
        </p:blipFill>
        <p:spPr>
          <a:xfrm>
            <a:off x="2133720" y="3863880"/>
            <a:ext cx="24382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5410080" y="1905120"/>
            <a:ext cx="335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8:00:19Z</dcterms:created>
  <dc:creator>MCPS</dc:creator>
  <dc:description/>
  <dc:language>en-US</dc:language>
  <cp:lastModifiedBy>cmrussell</cp:lastModifiedBy>
  <dcterms:modified xsi:type="dcterms:W3CDTF">2012-02-09T15:12:06Z</dcterms:modified>
  <cp:revision>6</cp:revision>
  <dc:subject/>
  <dc:title>Slide 1</dc:title>
</cp:coreProperties>
</file>